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530-28EB-40F3-ADD4-066F82DD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DF7-C7A4-49CA-9116-D4D7190F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26F-A5C0-4E8C-A105-4D4F7B1E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A10-AA86-4381-92B5-B926B0BE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177D-55A9-4E86-AEC4-AA6DD35E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56B3-E386-4879-B886-3630CBB9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E31D-444A-4C2E-91B7-7A3330EC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5C61-41DA-4BD7-A798-0B974E18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B992-7B0B-4FFD-84A8-4C28E1A9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CB98-3252-4088-BAC8-745ED996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4C53-EF38-4EFF-8669-E10E0512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AC5-CA0C-4634-BC60-31CB2437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0A74-1E0D-47C5-906E-2106A59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3B50-79E2-44A3-B220-FBC7BBF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64F1-6C97-45F5-AC8B-67828F8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336A-7A7B-4878-8B56-B9DC9E78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2787-A126-43EC-A54A-7D553FE2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6B7-F17F-4529-84EC-CB88FEC7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497-0789-45A3-9B9D-FD3AEAE6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33C-B435-4F94-A25A-DBF00994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72E-402C-4A08-A04F-E045B39D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555-2FA8-474A-9F5E-1B3C247E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F81-AF14-4DBA-AA23-8FD0BD57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FA5-8171-4D50-B67E-47ACE7C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4E4A-8329-4FD3-981A-F4E3064E684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90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BB60-7A57-48CD-9DE3-4294AB117A0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39080" y="266688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ive Us A King -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United Kingdom, Part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amuel 24:1-25, 22:1-51, 23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7-1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vid Numbers Israel and Judah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-9; 1 Chron. 21:1-22: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6197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empted by Satan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Chron. 21: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ordered to number the fighting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from other “number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reason - “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kno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protested - but followed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,000 in Israel; 500,000 in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0-1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conscience both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sked for forg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het Gad to David - choose one of three punish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years of fa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months fleeing from hi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ays of pest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4-1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2044800"/>
            <a:ext cx="8001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umbled himself befor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nt pestilence upon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,000 men 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topped the angel before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inter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it upon me and my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8-2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required to build an altar at Araunah’s (or Ornan) threshing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unah’s genero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David bought the threshing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the altar (future location of the tem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ed sacri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d to G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gue sto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vid’s Song of Prai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2:1-51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543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after God deliv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hands of his enemies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hand of S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xpres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God has been wit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need to call upon the Lord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rewarded according to righte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lete destruction of hi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od be the glory and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Last Psalm of David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3:1-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- the son of Jesse, raised up on high, anointed of God, a sweet psalm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of the Holy Spi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escription of the ruler no doubt refers to the ruler with an everlasting covenant (Chr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the fate of the ungod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1:04:10Z</dcterms:created>
  <dc:creator>Don Vines</dc:creator>
  <dc:description/>
  <dc:language>en-US</dc:language>
  <cp:lastModifiedBy>Frank D Vines</cp:lastModifiedBy>
  <dcterms:modified xsi:type="dcterms:W3CDTF">2005-07-19T14:59:25Z</dcterms:modified>
  <cp:revision>11</cp:revision>
  <dc:subject/>
  <dc:title>Give Us A King -  The United Kingdom</dc:title>
</cp:coreProperties>
</file>